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5510-BB2C-4596-9544-28373E12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E753-CCDC-403F-9CD8-0EF00606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7D3E-FAED-4756-899A-C61B9417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2C1B-B0F6-4342-A67C-D809BA8BF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DF83-5F8E-406E-8A29-7F441553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951C-313B-41F0-9402-E1E66344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4A6C-90D9-465A-9CA4-1FEAAF63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CD62-50CA-4CAA-B413-2ABA11A4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6622-9DF0-4562-83CC-8F4FB4BA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D9B5-4A90-4C4C-920A-D60274BB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5D95-62A0-4765-AEC3-CDDAD807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04D3-2594-4582-AC7D-AD82B55E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98E1-9169-4C73-B493-5511CFAD6D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hyperlink" Target="file:///264,8,&#24187;&#28783;&#29255;%208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梦江南2" descr=""/>
          <p:cNvPicPr/>
          <p:nvPr/>
        </p:nvPicPr>
        <p:blipFill>
          <a:blip r:embed="rId2"/>
          <a:stretch/>
        </p:blipFill>
        <p:spPr>
          <a:xfrm>
            <a:off x="0" y="0"/>
            <a:ext cx="9677520" cy="6983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400000">
            <a:off x="-724320" y="1942920"/>
            <a:ext cx="5639040" cy="2971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梦江南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095880" y="4572000"/>
            <a:ext cx="2133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温庭筠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0875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9753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990720"/>
            <a:ext cx="97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这首小令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只有二十七个字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“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一字一句闲不得”这不是一般人物在晨起来的梳头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而是特定人物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(             ),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特定条件下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(                                                )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下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一种特定情绪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(                      )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的反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71800" y="12193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思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1447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准备迎接久别的爱人归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18288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喜悦和激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84960" y="556272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20026309325919516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372600" cy="9128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6320" y="8380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形象刻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71604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140184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196920"/>
            <a:ext cx="83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①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182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动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67080" y="411120"/>
            <a:ext cx="353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切盼重逢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10666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凭栏远眺望心上人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1020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静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22860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景物描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38088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2209680"/>
            <a:ext cx="75960" cy="914400"/>
          </a:xfrm>
          <a:custGeom>
            <a:avLst/>
            <a:gdLst>
              <a:gd name="textAreaLeft" fmla="*/ 48600 w 75960"/>
              <a:gd name="textAreaRight" fmla="*/ 76320 w 759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411480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411480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⑤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1905120"/>
            <a:ext cx="7621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③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2362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90920" y="312408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5720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2057400"/>
            <a:ext cx="55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千帆过尽，不见心上人的船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2819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望穿秋水，夕烟西下，失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320" y="4267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情感抒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4191120"/>
            <a:ext cx="5334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令人感叹悲伤，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肝肠寸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91440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主题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236232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本词写一女子登楼远眺、盼望归人的情景，表现了她失望和怅惘的情怀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梦江南3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600200" y="609480"/>
            <a:ext cx="5257800" cy="8254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《梦江南》是温庭筠的名作。写思妇的离愁别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第一首，写思妇深夜不寐，望月怀人。第二首，写思妇白日倚楼，愁肠欲断。两首词以不同场景塑造同一类人物。一个是深夜不寐，一个是晨起登楼刻画人物，形象、生动传神，揭示人物心理，细腻得朴素自然，明丽清新，没有刻意求工、雕琢辞句，但却能含思凄婉，臻于妙境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90720" y="914400"/>
            <a:ext cx="457200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　 千万恨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恨极在天涯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山月不知心里事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水风空落眼前花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摇曳碧云斜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20026309325919516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372600" cy="9128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490680"/>
            <a:ext cx="865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温庭筠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: 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唐代诗人、词人。字飞卿。他是唐初宰相温彦博的后裔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他父亲时，家庭已经没落，事迹不闻。屡试进士不第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他喜讥刺权贵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多触忌讳；又不受羁束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纵酒放浪。因此不为时俗所重，一生坎坷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终身潦倒。温庭筠诗和李商隐齐名，时称“温李”。 </a:t>
            </a:r>
            <a:br>
              <a:rPr sz="2800"/>
            </a:b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温庭筠生而貌丑，有人恶意取笑，给了他一个“温锺馗”的绰号，然而在庭筠不招人喜欢的外表后面，偏偏生就一副多才多艺的锦绣心胸！他禀性“敏悟”，常能“走笔成万言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温庭筠是文人中第一个大量写词的人，是“花间派”词的先导。深受对词的发展有很大影响。他的词多写妇女生活 。〔梦江南〕两首写商妇的相思等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20026309325919516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372600" cy="9128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90920" y="1143000"/>
            <a:ext cx="521316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Times New Roman"/>
                <a:ea typeface="隶书"/>
              </a:rPr>
              <a:t>梳洗罢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Times New Roman"/>
                <a:ea typeface="隶书"/>
              </a:rPr>
              <a:t>独倚望江楼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Times New Roman"/>
                <a:ea typeface="隶书"/>
              </a:rPr>
              <a:t>过尽千帆皆不是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Times New Roman"/>
                <a:ea typeface="隶书"/>
              </a:rPr>
              <a:t>斜晖脉脉水悠悠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Times New Roman"/>
                <a:ea typeface="隶书"/>
              </a:rPr>
              <a:t>肠断白蘋洲。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20026309325919516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372600" cy="9128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0"/>
            <a:ext cx="876312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Comic Sans MS"/>
                <a:ea typeface="楷体_GB2312"/>
              </a:rPr>
              <a:t>倚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（     ）（</a:t>
            </a:r>
            <a:r>
              <a:rPr b="1" lang="zh-CN" sz="48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）            斜晖（                ）    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Comic Sans MS"/>
                <a:ea typeface="楷体_GB2312"/>
              </a:rPr>
              <a:t>脉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脉（    ）（           ）    悠悠（             ）           肠断（              ）          白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Comic Sans MS"/>
                <a:ea typeface="楷体_GB2312"/>
              </a:rPr>
              <a:t>蘋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洲（</a:t>
            </a:r>
            <a:r>
              <a:rPr b="1" lang="zh-CN" sz="48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    ）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              （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                                                           ）                 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0"/>
            <a:ext cx="143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y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1371600"/>
            <a:ext cx="100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m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358128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pí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-152280"/>
            <a:ext cx="211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凭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609480"/>
            <a:ext cx="330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夕阳的斜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13716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静默的样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21337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闲静的样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2895480"/>
            <a:ext cx="431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形容极为伤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428292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开满白色蘋花的水中小块陆地，古诗词中常代指分别的地方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4240" y="2209680"/>
            <a:ext cx="70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梳洗罢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53080" y="0"/>
            <a:ext cx="2590920" cy="2057400"/>
          </a:xfrm>
          <a:prstGeom prst="wedgeRoundRectCallout">
            <a:avLst>
              <a:gd name="adj1" fmla="val -62805"/>
              <a:gd name="adj2" fmla="val 915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05720" y="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表明她精心打扮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是时刻准备心上人的归来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所谓“女为悦己者容” 心情是喜悦和激动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梦江南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761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897520" y="3978360"/>
            <a:ext cx="40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独倚望江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590920"/>
            <a:ext cx="2590920" cy="1981080"/>
          </a:xfrm>
          <a:prstGeom prst="wedgeRoundRectCallout">
            <a:avLst>
              <a:gd name="adj1" fmla="val -76041"/>
              <a:gd name="adj2" fmla="val 5400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13560" y="3124080"/>
            <a:ext cx="262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一个“独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字写出了多么孤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落寞之情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48320" y="583236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2003522225739087" descr=""/>
          <p:cNvPicPr/>
          <p:nvPr/>
        </p:nvPicPr>
        <p:blipFill>
          <a:blip r:embed="rId2"/>
          <a:stretch/>
        </p:blipFill>
        <p:spPr>
          <a:xfrm>
            <a:off x="-1143000" y="-33480"/>
            <a:ext cx="10287000" cy="6891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13360" y="5335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过尽千帆皆不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0"/>
            <a:ext cx="5410080" cy="1981080"/>
          </a:xfrm>
          <a:prstGeom prst="wedgeEllipseCallout">
            <a:avLst>
              <a:gd name="adj1" fmla="val -115523"/>
              <a:gd name="adj2" fmla="val 8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25920" y="325440"/>
            <a:ext cx="333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此句是全词情感上的大转折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与起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的欢快情绪构成比照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鲜明而强烈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又和“独倚望江楼”空寂焦急相接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承上启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26168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234440" y="19224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斜晖脉脉水悠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-228600"/>
            <a:ext cx="4800600" cy="4800600"/>
          </a:xfrm>
          <a:prstGeom prst="cloudCallout">
            <a:avLst>
              <a:gd name="adj1" fmla="val -118287"/>
              <a:gd name="adj2" fmla="val -30092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48320" y="68580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望眼欲穿，船尽江空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人影不见，希望落空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幻想破灭，落日流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本无情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但在思妇眼里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成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多愁善感的有情者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斜阳欲落未落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不尽江水似乎也懂得她的心情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悠悠无语流去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shuitianyise" descr=""/>
          <p:cNvPicPr/>
          <p:nvPr/>
        </p:nvPicPr>
        <p:blipFill>
          <a:blip r:embed="rId2"/>
          <a:stretch/>
        </p:blipFill>
        <p:spPr>
          <a:xfrm>
            <a:off x="-1523880" y="-457200"/>
            <a:ext cx="11430000" cy="7658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62120" y="1905120"/>
            <a:ext cx="402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肠断白蘋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-380880"/>
            <a:ext cx="5639040" cy="2133360"/>
          </a:xfrm>
          <a:prstGeom prst="cloudCallout">
            <a:avLst>
              <a:gd name="adj1" fmla="val -23481"/>
              <a:gd name="adj2" fmla="val 92111"/>
            </a:avLst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76920" y="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千帆过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斜晖脉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江洲依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见人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能不肠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5T09:00:19Z</dcterms:created>
  <dc:creator/>
  <dc:description/>
  <dc:language>en-US</dc:language>
  <cp:lastModifiedBy>dell</cp:lastModifiedBy>
  <dcterms:modified xsi:type="dcterms:W3CDTF">2013-11-18T06:09:48Z</dcterms:modified>
  <cp:revision>45</cp:revision>
  <dc:subject/>
  <dc:title>幻灯片 1</dc:title>
</cp:coreProperties>
</file>